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(zu viel Album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1160" y="54936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Hyperalbumin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720" y="54936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relativ 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viel Album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Produktion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Leb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20960" y="54936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Hyper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bsolut (zu viel Albumi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3"/>
            <a:endCxn id="117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duktion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5040" y="549360"/>
            <a:ext cx="72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er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absolut (zu viel Albumin) &gt; Produktion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fluss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3040" y="549360"/>
            <a:ext cx="73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yperalbuminäm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absolut (zu viel Albumin) &gt; Produktion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ber ↑ &gt; Einfluss von Glukokortiko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3"/>
            <a:endCxn id="12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yperadrenokortizismu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abe von Glukokortikoiden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31:07Z</dcterms:modified>
  <cp:revision>332</cp:revision>
  <dc:subject/>
  <dc:title>Vorstellung einer Neuheit</dc:title>
</cp:coreProperties>
</file>